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EAF-AC90-4BA2-8AC0-CA673995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213-625F-466A-A7C8-43121292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86E-3E7A-4197-8709-C614AD28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2C5-E6BB-442E-B990-B1E5EF6E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D64B-3D40-41E7-BED4-B51EF153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DD4D-9FEB-49AD-B58C-DAA51CB9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563C-5D82-405B-8A72-62742742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52B3-34CF-4722-9412-D13A5F6B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3D2D-A689-4EED-8679-EBF4217D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63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56A8-B917-486A-82D0-72ED3A0C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64E8-6D1B-430C-B618-1E10AE08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FA9-1899-48B4-A3A8-66E1B404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1913-0C13-48DC-8EEF-A6E08BD9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27C9-F23A-4B51-B70D-3DE7796B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C33F-1A5D-4AF4-A550-29DDD8D3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F88B-3A80-4EAC-AB1B-A51D79D8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FF8B-BED2-4BD5-ACAD-1185F883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301F-C1C0-4863-82CF-49BC4F1D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B67F-441A-4900-9653-A3A5B540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925F5-2CB7-4C06-9828-EE54E4EA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EB74-2D27-46AE-A9C2-D5724272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D730B-9CBA-4C8F-B8BF-23A59926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E49-0233-4BE1-B2C7-E1FB0A4A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363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4A85B-A80E-47D9-9880-C286A50A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30DB6-7499-4424-8EAD-496E83C5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F5957-B8EB-4D14-9816-EABE22D8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FE0CB-DC98-462F-B638-85924254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9D89F-1192-47D2-8727-8F1E89D8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2384A-9877-44FA-B480-CFC14D2B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35D18-BBEA-4D0E-89BC-AB625127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A69ED-A1AF-4A87-AD39-54D2ECD4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ED054-9129-493E-818C-E0EA037A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C43C8-C998-41B4-B44A-6DB9C9BD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BD0-3B45-4B63-9374-95624773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0B152-049E-404D-8D99-0605A632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AC474-3266-4D12-B41B-CCA0218D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363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02775-B385-4060-8D01-5576E1CF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804FF-6F6E-47AE-A1B9-DE8F82D8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E1350-5308-4CAD-8DEE-576B42D4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AE366-06CD-4BCC-B004-CD86A0BE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F1FA2-73DB-4EA2-BA03-3CD239E0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8ED37-EA9D-4352-B369-E85A1A33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3556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69988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37160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3556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69988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F6034-B2CE-4373-AA69-B9B597FD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3B6E3-C497-4B74-ACE1-F310DD64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AA3-A2FC-4A0D-A0C2-5E135F43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2B58B-7DBA-4AFD-B678-523F9315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B1686-E71C-4204-BB2D-EB83A85A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D31CE-3197-496B-B80B-52BD7739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C9C34-0396-428D-AD47-70DDBC09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363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31344-C126-4A50-824E-D19D7249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79BEF-84EF-40BD-B1BE-1715F3A6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A47A3-8FC0-4D61-8D4D-E3C8AFD2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E72AB-6B1D-4414-A5B4-CFC0E25A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80DD9-1265-4C1D-B52E-591DCFF7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8CA94-8891-41DF-9911-299B9E1A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63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F44-AC48-4AF0-A00E-3A18F26F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3556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9988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37160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3556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69988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EFAA7-0942-4842-9136-33C39C88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09876-80B2-486F-BD84-AD4EA9CA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766B0-CA3F-4CED-8FA3-69427B8D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E1128-D150-4B64-989E-DA841F8D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2483A-0F22-439A-95CE-42896D5C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B7F76-398A-4B36-9A8F-0AB216CF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85800" y="363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8F5DB-A86D-47BE-ADE8-582AC2CC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F40BB-1B81-47E9-BD52-2AE1F758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74CD0-4A61-4A48-8BDC-7CE6AFFC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72D9E-42E8-4534-B5D6-11ED8AC8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05F-C80C-45ED-B06A-862A9F40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26C17-CBA5-44CC-BFA4-E35DF4D1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DBBE9-8174-4DA2-9E76-1282B51F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3556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69988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37160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3556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69988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13DE6-0BAB-4424-945C-0E3A1245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1F660-AA2D-4C68-8BE9-079DE730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CF061-E4AD-4B79-AD97-C101FB76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DEE26-B9EB-48D7-90E5-5CD27BA4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F7F07-D460-4AC2-91E0-3CE22DC7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8E9DD-D7BF-4340-A720-4D316C29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363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4AF77-712F-4045-BD38-50D410CB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C8541-704E-4CAC-8771-565E668A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EEB-F9DF-47B6-8552-7DE263FD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FC8B0-6693-4CDC-ADF4-F2EDAAED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349AB-D503-40C1-8774-3B0A7A95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FB7E1-5095-41A3-BCDF-A1565EB4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21884-894C-42EB-ACD4-ADDDAA1A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3556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69988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37160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3556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69988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2A544-6D4C-402E-B0CF-7C3B58CF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2B953-BEBF-4649-A24C-CAD7F927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A7B2E-5BFB-4284-BE6B-69B0E190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C265C-941C-4635-B3D7-1C2C3306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83E51-343B-4CC9-8049-43D6AEFB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B3104-6379-4AAA-B4DC-361ED388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7CC-F315-41EC-A27C-427B9293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800" y="363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16387-ACC9-4C11-A23D-DB6AEB4C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E4F9D-BC08-46DE-B2EF-386DD628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620C0-CDDB-4893-9464-147198F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2CF91-025F-428C-9B27-FFBFE088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9CCB4-DE39-4483-B513-23DD427C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E469C-5A84-4688-9B18-F31D4F31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3556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69988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37160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3556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69988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3E267-F32F-49D2-BCBB-50C71E94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440" y="274320"/>
            <a:ext cx="67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14440" y="1600200"/>
            <a:ext cx="67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BEC1-9297-4649-B529-F1AECB68B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6CD0-040E-4111-B160-14B1F7CB3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14440" y="274320"/>
            <a:ext cx="67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2314440" y="1600200"/>
            <a:ext cx="67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A692-F85B-4B44-8921-71ED3D6FD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D588-05C4-4678-B393-8BC9B5E8B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65160" y="274320"/>
            <a:ext cx="63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2765160" y="1600200"/>
            <a:ext cx="632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2298-484E-46DF-9924-DA299485E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2E89-70E1-4B4E-B73A-B8F426724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14440" y="274320"/>
            <a:ext cx="67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314440" y="1600200"/>
            <a:ext cx="67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4B96-E5A4-499A-80F4-08D55460B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2A72-B632-497C-9798-5B7E29D43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dezine.com/powerpoint/templates/categories/holidaysevents/fathersday.html" TargetMode="External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ndezine.com/" TargetMode="External"/><Relationship Id="rId3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174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Father's Da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765160" y="274320"/>
            <a:ext cx="63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Father's D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765160" y="1600200"/>
            <a:ext cx="632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's Day is a secular holiday, inaugurated in the early 20th century to complement Mother's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celebrates fatherhood and parenting by males, and honors and commemorate fathers and forefa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65160" y="274320"/>
            <a:ext cx="63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is Father's Day celebrat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765160" y="1600200"/>
            <a:ext cx="632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ebrated on a variety of dates worldw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ly, Father's Day was celebrated mainly in the western cou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US, Father's Day is marketed as a day when you buy gifts for your father and grandfa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sia Pacific countries, Father's Day is being emulated commercially in the same way as in the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65160" y="274320"/>
            <a:ext cx="63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olution  of Father's 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765160" y="1600200"/>
            <a:ext cx="6321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United States, the first modern Father's Day celebration was held on July 5, 1908, in Fairmont, West Virgi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cent years, retailers have adapted to the holiday by promoting male-oriented gifts such as electronics and t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s and other children's programs commonly have activities to make Father's Day gif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65160" y="274320"/>
            <a:ext cx="63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n is Father's D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65160" y="1600200"/>
            <a:ext cx="632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ly celebrated on third Sunday in June in the US and most countries including China and In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ember 5th in Thailand, and February  in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765160" y="274320"/>
            <a:ext cx="65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n you do for your Dad on Father's D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765160" y="1600200"/>
            <a:ext cx="632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him a card, or send him an email if he lives far a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 him some gifts -- maybe electronics, tools, or something he will appreci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him how much he means to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quick PowerPoint greeting card with free Father’s Day templates at </a:t>
            </a:r>
            <a:r>
              <a:rPr b="0" lang="en-US" sz="2800" spc="-1" strike="noStrike" u="sng">
                <a:solidFill>
                  <a:srgbClr val="d6e9ff"/>
                </a:solidFill>
                <a:uFillTx/>
                <a:latin typeface="Arial"/>
                <a:hlinkClick r:id="rId2"/>
              </a:rPr>
              <a:t>Indezine.com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right Indezi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6e9ff"/>
                </a:solidFill>
                <a:uFillTx/>
                <a:latin typeface="Arial"/>
                <a:hlinkClick r:id="rId2"/>
              </a:rPr>
              <a:t>http://www.indezi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6:51:26Z</dcterms:created>
  <dc:creator>Geetesh Bajaj</dc:creator>
  <dc:description/>
  <dc:language>en-US</dc:language>
  <cp:lastModifiedBy>Geetesh Bajaj</cp:lastModifiedBy>
  <dcterms:modified xsi:type="dcterms:W3CDTF">2007-06-04T07:15:14Z</dcterms:modified>
  <cp:revision>6</cp:revision>
  <dc:subject/>
  <dc:title>Father's Day</dc:title>
</cp:coreProperties>
</file>